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D01-D4F8-412A-86F0-FB537250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D88-0250-4C58-92D0-ADEC5E8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854-7E92-4AFE-9758-5795693A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6D2-BD91-46EC-A797-BB9AD03D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5DC-3836-4D6B-B032-EF2DC8B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5DF-1548-45A2-AD18-DCA73E63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4AA-7EEE-4AAF-A484-B5320A9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792-F81C-48DB-8138-F1B307AA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AA4-A322-4A3C-820D-A464D99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104-E4BB-4E19-853F-56679BE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23B-530B-408F-869A-306845D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5F0-63D5-48B0-84B9-E45928B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185B-F757-4DED-BF18-C52D8F76B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luefrontdoor.co.uk/gallery3-pics/dinosaurs-large1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luefrontdoor.co.uk/gallery3-pics/dinosaurs-large3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luefrontdoor.co.uk/gallery3-pics/cartoon-dinosaur.jpg"/>
          <p:cNvPicPr/>
          <p:nvPr/>
        </p:nvPicPr>
        <p:blipFill>
          <a:blip r:embed="rId1"/>
          <a:stretch/>
        </p:blipFill>
        <p:spPr>
          <a:xfrm>
            <a:off x="2209680" y="1066680"/>
            <a:ext cx="4953240" cy="559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is the story of Manny the Dinosaur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是恐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Manny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的故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9907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totaltravel.com.au/guide/photos/thecoorong/satc_sunset_nat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145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morning to 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-121932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http://www.urbanpotato.net/content/photos/normal/Photo_1623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the sand he could find many magical th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-7621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http://farm4.static.flickr.com/3033/2455213018_853264e7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 found many magical to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http://farm4.static.flickr.com/3033/2455213018_853264e7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t he found 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8380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farm1.static.flickr.com/60/180784604_215c7b471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day he was digging in the sand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http://sun4.vaniercollege.qc.ca/international/images/vefa/question-mark-red.png"/>
          <p:cNvPicPr/>
          <p:nvPr/>
        </p:nvPicPr>
        <p:blipFill>
          <a:blip r:embed="rId1"/>
          <a:stretch/>
        </p:blipFill>
        <p:spPr>
          <a:xfrm>
            <a:off x="1219320" y="304920"/>
            <a:ext cx="624816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found something he had never seen befo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11430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bluefrontdoor.co.uk/gallery3-pics/dinosau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04920"/>
            <a:ext cx="6553080" cy="6234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found another dinosaur that looked just like h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-9907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decided that were tw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Recorded Sound" descr=""/>
          <p:cNvPicPr/>
          <p:nvPr/>
        </p:nvPicPr>
        <p:blipFill>
          <a:blip r:embed="rId1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ttp://www.istockphoto.com/file_thumbview_approve/6345716/2/istockphoto_6345716-twins-hug.jpg"/>
          <p:cNvPicPr/>
          <p:nvPr/>
        </p:nvPicPr>
        <p:blipFill>
          <a:blip r:embed="rId2"/>
          <a:stretch/>
        </p:blipFill>
        <p:spPr>
          <a:xfrm>
            <a:off x="1676520" y="1752480"/>
            <a:ext cx="56386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ce that day they have always been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Recorded Sound" descr=""/>
          <p:cNvPicPr/>
          <p:nvPr/>
        </p:nvPicPr>
        <p:blipFill>
          <a:blip r:embed="rId1"/>
          <a:stretch/>
        </p:blipFill>
        <p:spPr>
          <a:xfrm>
            <a:off x="-9144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ttp://www.istockphoto.com/file_thumbview_approve/6345716/2/istockphoto_6345716-twins-hug.jpg"/>
          <p:cNvPicPr/>
          <p:nvPr/>
        </p:nvPicPr>
        <p:blipFill>
          <a:blip r:embed="rId2"/>
          <a:stretch/>
        </p:blipFill>
        <p:spPr>
          <a:xfrm>
            <a:off x="1447920" y="1905120"/>
            <a:ext cx="60958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ttp://www.lisaannhammond.com/inspiration/images/footprints.jpg"/>
          <p:cNvPicPr/>
          <p:nvPr/>
        </p:nvPicPr>
        <p:blipFill>
          <a:blip r:embed="rId1"/>
          <a:stretch/>
        </p:blipFill>
        <p:spPr>
          <a:xfrm>
            <a:off x="-457200" y="0"/>
            <a:ext cx="10944360" cy="7238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went digging in the sand and got l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-6858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llnw.creamermedia.co.za/articles/images/resized/56721_resized_a_long_time_ago,_in_a_galaxy_far,_far_away.jpg"/>
          <p:cNvPicPr/>
          <p:nvPr/>
        </p:nvPicPr>
        <p:blipFill>
          <a:blip r:embed="rId1"/>
          <a:stretch/>
        </p:blipFill>
        <p:spPr>
          <a:xfrm>
            <a:off x="0" y="-457200"/>
            <a:ext cx="10591920" cy="10360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 long long time ago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ja-JP" sz="36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很久一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http://twotzaddiks.org/images/fenced-grave-of-R-Raphael-at-Tarashcha-1997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 how is dinosaurs became extin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orded Sound" descr=""/>
          <p:cNvPicPr/>
          <p:nvPr/>
        </p:nvPicPr>
        <p:blipFill>
          <a:blip r:embed="rId2"/>
          <a:stretch/>
        </p:blipFill>
        <p:spPr>
          <a:xfrm>
            <a:off x="-12952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bluefrontdoor.co.uk/gallery3-pics/cartoon-dinosaur.jpg"/>
          <p:cNvPicPr/>
          <p:nvPr/>
        </p:nvPicPr>
        <p:blipFill>
          <a:blip r:embed="rId1"/>
          <a:stretch/>
        </p:blipFill>
        <p:spPr>
          <a:xfrm>
            <a:off x="2209680" y="762120"/>
            <a:ext cx="5029200" cy="5678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lived a playful dinosau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有一个爱游玩的恐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3808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name was Manny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1"/>
          <a:stretch/>
        </p:blipFill>
        <p:spPr>
          <a:xfrm>
            <a:off x="-76212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scrapbookinspirationsmagazine.co.uk/resources/scrapbook/Street%20stickers1.png"/>
          <p:cNvPicPr/>
          <p:nvPr/>
        </p:nvPicPr>
        <p:blipFill>
          <a:blip r:embed="rId2"/>
          <a:stretch/>
        </p:blipFill>
        <p:spPr>
          <a:xfrm>
            <a:off x="1905120" y="2438280"/>
            <a:ext cx="5649840" cy="36198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2206800" y="3749760"/>
            <a:ext cx="5016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everystockphoto.s3.amazonaws.com/Grass_Green_Manhattan_253107_l.jpg"/>
          <p:cNvPicPr/>
          <p:nvPr/>
        </p:nvPicPr>
        <p:blipFill>
          <a:blip r:embed="rId1"/>
          <a:stretch/>
        </p:blipFill>
        <p:spPr>
          <a:xfrm>
            <a:off x="0" y="0"/>
            <a:ext cx="10920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ny liked eating gr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-1143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bluefrontdoor.co.uk/gallery3-pics/dinosaur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04920"/>
            <a:ext cx="6553080" cy="610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ny also liked playing with his dinosaur frie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-685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cenery-Mountains.jpg mountains picture by neckbreaker50"/>
          <p:cNvPicPr/>
          <p:nvPr/>
        </p:nvPicPr>
        <p:blipFill>
          <a:blip r:embed="rId1"/>
          <a:stretch/>
        </p:blipFill>
        <p:spPr>
          <a:xfrm>
            <a:off x="-228600" y="-304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played in the lake and on the mountain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13716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zanygallery.com/maui%20white%20sand%20bea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Manny’s favorite thing to do was to play in the s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-9907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http://www.lisaannhammond.com/inspiration/images/footprints.jpg"/>
          <p:cNvPicPr/>
          <p:nvPr/>
        </p:nvPicPr>
        <p:blipFill>
          <a:blip r:embed="rId1"/>
          <a:stretch/>
        </p:blipFill>
        <p:spPr>
          <a:xfrm>
            <a:off x="-304920" y="0"/>
            <a:ext cx="10944360" cy="7238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ould play there every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2"/>
          <a:stretch/>
        </p:blipFill>
        <p:spPr>
          <a:xfrm>
            <a:off x="-7621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3:30Z</dcterms:created>
  <dc:creator>itsuser</dc:creator>
  <dc:description/>
  <dc:language>en-US</dc:language>
  <cp:lastModifiedBy>itsuser</cp:lastModifiedBy>
  <dcterms:modified xsi:type="dcterms:W3CDTF">2009-05-05T16:02:25Z</dcterms:modified>
  <cp:revision>13</cp:revision>
  <dc:subject/>
  <dc:title>This is the story of Manny the Dinosaur  这是Manny 恐龙的故事</dc:title>
</cp:coreProperties>
</file>